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5D0-27CC-4D61-9B28-76C9EB94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187-E3F2-4143-BE01-696F399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FAC-3130-44BC-AB43-AB28B00E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088-A208-42D4-8B52-19471090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8F19-23E9-4E38-85AF-952BF889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2F3-C265-4A83-A3B4-9888ECA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0113-1026-4285-8056-01CEAE2B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D73-1DBD-495B-A8C1-E12DBF2B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672-BEBD-44C9-9BAA-7BC0DDF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31DA-963E-453E-A248-15376FB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FCD-3209-4EFD-AD13-2A6D2E0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02E-C5D8-443C-B7DA-C28BC97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A1EF-8153-447B-85DF-CED10DD0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8750-E5BC-4D89-8C31-24B3F05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0558-8277-4B99-8BBD-9139E5E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CD37-2A95-4404-A5A3-2B19109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E86-E637-4A69-A2E6-F9C64116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761-3411-45A2-9753-05361386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C1C-CCD3-4ADF-A2B3-12FDDC8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C05-B27D-46B1-AAFA-7B75A857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F1F-C052-4097-989C-ACDC2CCA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970-881B-4CBB-BD08-02EF5A2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980-D8D3-408D-991F-9264E85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702-8261-45E6-81A5-4E59BB5A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EB77-1E26-48DD-828F-897B5ADCC0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1AFA-D27D-4B56-8959-D860F89707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Give Us A King”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Story of Solomon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Quarter 5, Lesson 1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Kings 5-7, Pages 117-12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Courtyard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rrounded by a wal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urniture and vessels made of bronz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eat sea of cast bronz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en basins of wa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wo huge pillars in front of the temp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items molded in the clay of the plains of the Jord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304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57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of Dav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685800"/>
            <a:ext cx="17528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05720" y="1066680"/>
            <a:ext cx="3808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Bible History In Review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od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Exod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ilderness Wander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quest of the Lan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403848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ud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United Kingd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Sa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DAV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o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iram, king of Tyre, sent congratulations to Solom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lomon made a request to Hiram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will build a great temple for Jehovah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nd me cedar logs and timb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ur men will work togeth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will supply the food for the worker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need a skilled craftsman to work with metals, lumber and fine cloth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ram’s response, he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joiced in hearing from Solom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ould send a skill craftsman whose mother was an Israelit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ould send the lumber needed via raf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return, Solomon was to send wheat, barley, olive oil, and wine as compens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ngs went well between the two m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lomon supplied the food and 30,000 men to work in the mountai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3,300 supervisors of the wor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lomon figured the number of aliens and put them to work; 70,000 transporters; 80,000 hew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tones and timbers prepare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w ready for the work to beg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The Construction of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6:1 - 7:50; 2 Chron. 3:1 - 4:22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ork started in fourth year of Solomon’s reig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ted on the threshing floor of Arauna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ted where Abraham offered Isaac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ook 7 years to finish the build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emember God’s covenant with the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me features of the tabernacle retaine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 was a magnificent struct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Exterior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mensions = 30 feet wide by 45 feet high by 90 feet dee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ree floors of rooms attached to three sides of the build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orch was 30 x 45 with two great pillars on each side of the huge doo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noise made at the site for fashioning the timber and ston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Inside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outer room (30 x 45 x 60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ivided into two roo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one walls covered with cedar paneling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oors covered with pine wood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oors, walls and ceilings covered with gold plating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tained windows, two doors, ten tables and ten lampstands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Inside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inner room (30 x 30 x 30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alls, ceiling and floor covered with gold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wo huge cherubi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rk of the covenant placed in front of the cherubi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wall between the rooms had doors, a veil and a gold cha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altar of incense located in the inner room or close to 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09:40Z</dcterms:created>
  <dc:creator>Don Vines</dc:creator>
  <dc:description/>
  <dc:language>en-US</dc:language>
  <cp:lastModifiedBy>Frank D Vines</cp:lastModifiedBy>
  <dcterms:modified xsi:type="dcterms:W3CDTF">2005-08-10T22:48:49Z</dcterms:modified>
  <cp:revision>16</cp:revision>
  <dc:subject/>
  <dc:title>“Give Us A King” The Story of Solomon</dc:title>
</cp:coreProperties>
</file>